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9B5-4A71-49CA-88A4-73731794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BE3-F760-43E9-B33E-EFC956B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FB7-77DC-40EB-BCD7-F2D1CA03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ABC-122F-4F77-B037-2F9DBE8C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69CB-3C61-40B6-A8B3-D5E763BE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296-BCC6-4FD3-B63B-1F5264D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4CB-C113-4FDE-84A6-58C73B96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6B6E-BA61-43E4-820C-5017984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DE12-34FD-404D-8037-32936A58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54B5-912E-4A70-9601-3DA455DF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8A8-D072-4DE1-BA38-45EDA12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145-A0CA-4C7B-BF87-C1D1F882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F55B-4914-4716-B88F-BD7896D4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26C-C353-43F6-9B3A-B01630F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371D-19DE-4250-BCCB-3CE02763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0D2-C4A1-41E1-8FD9-8A6E7725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D988-218C-4514-A1E0-85CC6A07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2CA-65F4-47B1-9751-ADA075D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CB3-1482-424F-892F-57DEC0E7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D53-A51D-424D-8B52-F160B7B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93D-EF69-43FC-B58D-CA17A8C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49C-C760-4274-9643-263525D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8E6-E364-4BB8-B991-52F60F6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838-208E-41EF-9494-55CAA2A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1264-8C95-4823-8558-04412D3A4C6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1905-2E6E-47EC-A5D3-2B46C8B233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73F-289C-4E29-981C-13532C2D08B1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700-3711-4ACD-807B-795266E299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Environment Tea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CD4-8B47-4D08-9525-CEC19C8429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187A60-700D-40CF-ACA3-29D7069A1E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LCD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 sti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design drawings from H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0B9-00F5-4459-A266-CE808FC69B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3AB8D-B1C1-48E6-9D21-8CDFDC538B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Vision…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virtual model creation process to interactively aid in the design, build, and realization phase of a hospital construc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0641" t="0" r="6388" b="0"/>
          <a:stretch/>
        </p:blipFill>
        <p:spPr>
          <a:xfrm>
            <a:off x="304920" y="3809880"/>
            <a:ext cx="335268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60352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809880" y="4343400"/>
            <a:ext cx="1981440" cy="1143000"/>
          </a:xfrm>
          <a:prstGeom prst="leftRightArrow">
            <a:avLst>
              <a:gd name="adj1" fmla="val 50000"/>
              <a:gd name="adj2" fmla="val 345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775-475F-4718-BF18-C7F7D74F25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C5D6A-02D5-4B86-9038-983C537508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Hospital Design &amp; Build Proces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5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8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14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7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20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B55-A5D8-438E-B76D-5C24FBA0A18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B6017-DBD2-4B8A-9980-E8533117A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Vision throughout design &amp; build process…</a:t>
            </a:r>
            <a:endParaRPr b="0" lang="en-US" sz="2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01992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6064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Design &amp; Build Proc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ode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2057040"/>
            <a:ext cx="4724640" cy="396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5486400"/>
            <a:ext cx="533160" cy="380880"/>
            <a:chOff x="1371600" y="5486400"/>
            <a:chExt cx="533160" cy="380880"/>
          </a:xfrm>
        </p:grpSpPr>
        <p:sp>
          <p:nvSpPr>
            <p:cNvPr id="129" name=""/>
            <p:cNvSpPr/>
            <p:nvPr/>
          </p:nvSpPr>
          <p:spPr>
            <a:xfrm>
              <a:off x="1371600" y="54864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5486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4267080"/>
            <a:ext cx="533160" cy="380880"/>
            <a:chOff x="2819520" y="4267080"/>
            <a:chExt cx="533160" cy="380880"/>
          </a:xfrm>
        </p:grpSpPr>
        <p:sp>
          <p:nvSpPr>
            <p:cNvPr id="132" name=""/>
            <p:cNvSpPr/>
            <p:nvPr/>
          </p:nvSpPr>
          <p:spPr>
            <a:xfrm>
              <a:off x="2819520" y="42670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520" y="42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24280" y="2666880"/>
            <a:ext cx="533160" cy="380880"/>
            <a:chOff x="4724280" y="2666880"/>
            <a:chExt cx="533160" cy="380880"/>
          </a:xfrm>
        </p:grpSpPr>
        <p:sp>
          <p:nvSpPr>
            <p:cNvPr id="135" name=""/>
            <p:cNvSpPr/>
            <p:nvPr/>
          </p:nvSpPr>
          <p:spPr>
            <a:xfrm>
              <a:off x="4724280" y="26668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76520" y="5486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in optimizing design before it’s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26708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way-finding tran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Process Effici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59092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interaction between patients, nur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 educate on way-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10C-DE49-42F3-B4AC-7C79521D70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89F6-5A49-42F1-8A11-2A481E5D61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increase effectiveness with designing better workplaces by integrating verbal and behavioral feedbacks from n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.9% of nursing staff time was spent walking (Burgio et al.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mpact of unit layout on the amount of time spent walking (Shepley 2002; Shepley and Davies 2003; Sturdavant 196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6B2-DCA5-41B1-9427-894A87D642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B3A28-5D60-43B2-81F3-EB63993459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4797360"/>
            <a:ext cx="237672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136692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3708360" y="3668760"/>
          <a:ext cx="4319640" cy="28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668760"/>
                    <a:ext cx="431964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7786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s are randomly assigned to different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sked to explore the unit and perform several medic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s and time used, and their verbal feedbacks are col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5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495-EEED-44B1-933F-9790776109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08867-E0C7-42EB-A5F6-D28810EA71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way-finding tran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cess efficiencies and reduc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ople with virtual environment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ining outperform people without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times to perform route task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left-right directional jud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Hunt, M. E. (1984), Foreman, N., et al, (200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FBA-B38C-43F2-B996-A071D36CAE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70B3-6813-4BFB-B43B-D7D8031DF5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 will be trained to perform medical tasks with the optimized routes before they move into new build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nurses may have different tasks/ dest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2810" t="0" r="31672" b="23955"/>
          <a:stretch/>
        </p:blipFill>
        <p:spPr>
          <a:xfrm>
            <a:off x="3780000" y="342900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3860640"/>
            <a:ext cx="2592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rse in ICU will be trained to locate key loc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peopl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422100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72428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5300640"/>
            <a:ext cx="287280" cy="2890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6E4-ED3B-4DB1-B498-7C7A780DBE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C723C-CFA2-4460-B8F1-29C6512048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ccupancy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transparency of the environment to patients and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the virtual environment to know how to find key locations in the hospit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3887640"/>
            <a:ext cx="6337080" cy="297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27640" y="5661000"/>
            <a:ext cx="1224000" cy="720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3860640"/>
            <a:ext cx="2160720" cy="120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: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: 20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C1E-8A35-4DC8-A342-2397F75A87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EA1A1-9BEA-4652-A368-CA83363CBC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0-25T19:24:37Z</dcterms:modified>
  <cp:revision>5</cp:revision>
  <dc:subject/>
  <dc:title>Virtual Environment Team</dc:title>
</cp:coreProperties>
</file>